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5C9A-7E8B-43F0-B761-E7069A6D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F9BE-BAD7-40D2-B43F-60812F69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AE07-7DCC-4B0D-A2C3-55656B5F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055B-BB43-4E3B-8A06-64025A40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0649-3E6B-4AB7-8F3F-49864AF7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DD42-0B54-49F0-A624-1F85414D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6800-C762-40B0-A418-C0690CC5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5187-67F7-4034-82C3-FA069907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3CF8-2A2A-4F2D-88D1-2C155C7F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6B1F-4F54-4585-9896-FF39CC32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7CB4-06F2-4413-B646-F2C0D4A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F083-72F7-46C9-B065-29BEBC4B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09C9-8590-4FE1-A0FD-FA4CE5E8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F207-8FFF-41FC-B40E-3C3975BB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F02B-AB8B-47DA-AF91-CADBB770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448F-2262-4631-9B04-A931199E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77D7-8744-48E9-ADA0-5C1F9EA0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23A1-C07E-4E29-ADA2-747682EA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D98A-B7DD-45CA-80C1-AF6E2201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077D-D96B-4EDE-B4E2-38C5CC27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C2B1-2968-42A5-86F1-235B5A32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C170-C708-434D-AE56-2F731C07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55F5-79EC-46DD-8F51-5F4C5F10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72EBC-A3DC-4B47-BDB3-C7F91FF5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5091-750B-4C4C-85C1-D4F7C6BF95A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0B18-FB9F-49FD-AAD8-D99AB69ABF6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806040"/>
            <a:ext cx="957744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  <a:ea typeface="Arial"/>
              </a:rPr>
              <a:t>233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3000" spc="-1" strike="noStrike">
                <a:solidFill>
                  <a:srgbClr val="ffffff"/>
                </a:solidFill>
                <a:latin typeface="Arial"/>
                <a:ea typeface="Arial"/>
              </a:rPr>
              <a:t>Пр.338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200" spc="-1" strike="noStrike">
                <a:solidFill>
                  <a:srgbClr val="ffffff"/>
                </a:solidFill>
                <a:latin typeface="Arial"/>
                <a:ea typeface="Arial"/>
              </a:rPr>
              <a:t> Сейте, сеячи, доброто засявайте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200" spc="-1" strike="noStrike">
                <a:solidFill>
                  <a:srgbClr val="ffffff"/>
                </a:solidFill>
                <a:latin typeface="Arial"/>
                <a:ea typeface="Arial"/>
              </a:rPr>
              <a:t>в младата нива у нас;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ffffff"/>
                </a:solidFill>
                <a:latin typeface="Arial"/>
                <a:ea typeface="Arial"/>
              </a:rPr>
              <a:t>истини здрави в душите втълпявайте важен е днешният час!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780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йте, сеячи, доброто засявайте в младата нива у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123920"/>
            <a:ext cx="100821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Сейте ламтеж къмто правда божестве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йте любов не вражд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лост в сърца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обич мъжествена къмто дълга и труд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74780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йте, сеячи, доброто засявайте в младата нива у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С жътва богата, със спор, изобил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г ще труда надар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честно и славно е твойто усилие, бодро засявай, о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-116640" y="5949000"/>
            <a:ext cx="22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ffffff"/>
                </a:solidFill>
                <a:latin typeface="Garamond"/>
              </a:rPr>
              <a:t>Иван Вазов</a:t>
            </a:r>
            <a:r>
              <a:rPr b="0" lang="bg-BG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541440" y="174780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ейте, сеячи, доброто засявайте в младата нива у н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2-19T10:44:31Z</dcterms:modified>
  <cp:revision>169</cp:revision>
  <dc:subject/>
  <dc:title>Slide 1</dc:title>
</cp:coreProperties>
</file>